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FA1-DD88-4AC9-9A9F-47B527DE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894-F2ED-4570-8633-4DF194A9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3FC-68F0-4388-AB00-139791C3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475-28DE-4C69-8504-599AF445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377-EBEB-47A2-9C87-57F514F3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4E9-B0FE-4772-8832-2B3EE514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695-3FE4-41A2-AFC3-4E35660B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6574-32D9-4E76-A17B-C5E1FFEC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F06-6037-4A7E-B530-04BD4227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D65-D58F-4094-BD53-26E4A64D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E91-03F3-462E-B794-F9E18F74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0E4-EECA-41FB-A75D-0AD035B5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6F3D-EB1F-4027-9563-0F53EAC19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56760"/>
            <a:ext cx="6248160" cy="18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900" spc="-1" strike="noStrike">
                <a:solidFill>
                  <a:srgbClr val="17375e"/>
                </a:solidFill>
                <a:latin typeface="Calibri"/>
              </a:rPr>
              <a:t>Факултет медицинских наука Универзитета у Крагујевцу</a:t>
            </a:r>
            <a:br>
              <a:rPr sz="2900"/>
            </a:br>
            <a:r>
              <a:rPr b="1" lang="sr-RS" sz="2900" spc="-1" strike="noStrike">
                <a:solidFill>
                  <a:srgbClr val="17375e"/>
                </a:solidFill>
                <a:latin typeface="Calibri"/>
              </a:rPr>
              <a:t>Основне струковне студије</a:t>
            </a:r>
            <a:br>
              <a:rPr sz="2900"/>
            </a:br>
            <a:r>
              <a:rPr b="1" lang="sr-RS" sz="2900" spc="-1" strike="noStrike">
                <a:solidFill>
                  <a:srgbClr val="17375e"/>
                </a:solidFill>
                <a:latin typeface="Calibri"/>
              </a:rPr>
              <a:t>Биохемија, А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17375e"/>
                </a:solidFill>
                <a:latin typeface="Calibri"/>
              </a:rPr>
              <a:t>Наставна јединица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ХОЛЕСТЕРОЛ И ЛИПОПРОТЕИ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samo-logo"/>
          <p:cNvPicPr/>
          <p:nvPr/>
        </p:nvPicPr>
        <p:blipFill>
          <a:blip r:embed="rId1"/>
          <a:stretch/>
        </p:blipFill>
        <p:spPr>
          <a:xfrm>
            <a:off x="23760" y="0"/>
            <a:ext cx="1600200" cy="2182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4270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Варење липида у дигестивном трак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24120" y="99072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Панкреасна лип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Ф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сф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ипаза А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 естера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ипиди су у танк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 цреву емулг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вани жучним с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има (из жучне кесице) те настаје мицеларна суспензија - 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mixed micelles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бичаје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 исхра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 днев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се унесе 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к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 60g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д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 150g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ипи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У ентероцитима настају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ХИЛОМИКРОН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483080" y="914400"/>
            <a:ext cx="4660920" cy="358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483080" y="4495680"/>
            <a:ext cx="38988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44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4400" spc="-1" strike="noStrike">
                <a:solidFill>
                  <a:srgbClr val="17375e"/>
                </a:solidFill>
                <a:latin typeface="Calibri"/>
              </a:rPr>
              <a:t>ТЕИНИ КРВНЕ ПЛАЗ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7760" y="129528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У састав липoпрoтеинске честице улаз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триацилглицерo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естри хoлестерo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хoлестерo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(око 2/3 холестерола у организму настаје ендогеном синтезом; то је количина око 800-900mg/dan (синтеза се дешава углавном ноћу), а преостала 1/3 треба да се унесе храном  (количина од 150-300mg/d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фoсфoлипид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апoлипoпрoте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2438280"/>
            <a:ext cx="349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28880" y="274680"/>
            <a:ext cx="45147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17375e"/>
                </a:solidFill>
                <a:latin typeface="Calibri"/>
              </a:rPr>
              <a:t>У  лип</a:t>
            </a: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44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4400" spc="-1" strike="noStrike">
                <a:solidFill>
                  <a:srgbClr val="17375e"/>
                </a:solidFill>
                <a:latin typeface="Calibri"/>
              </a:rPr>
              <a:t>теине спадају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320" y="3047760"/>
            <a:ext cx="9139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1.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ХИЛ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НИ 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i="1" lang="sr-RS" sz="3200" spc="-1" strike="noStrike">
                <a:solidFill>
                  <a:srgbClr val="17375e"/>
                </a:solidFill>
                <a:latin typeface="Calibri"/>
              </a:rPr>
              <a:t>СМ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2.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ТЕИНИ ВЕ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МА МАЛЕ ГУСТИНЕ 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i="1" lang="en-US" sz="3200" spc="-1" strike="noStrike">
                <a:solidFill>
                  <a:srgbClr val="17375e"/>
                </a:solidFill>
                <a:latin typeface="Calibri"/>
              </a:rPr>
              <a:t>VLDL</a:t>
            </a: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 – very low density lipoproteins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ТЕИНИ МАЛЕ ГУСТИНЕ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 (</a:t>
            </a:r>
            <a:r>
              <a:rPr b="1" i="1" lang="en-US" sz="3200" spc="-1" strike="noStrike">
                <a:solidFill>
                  <a:srgbClr val="17375e"/>
                </a:solidFill>
                <a:latin typeface="Calibri"/>
              </a:rPr>
              <a:t>LDL</a:t>
            </a: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 – low density lipoproteins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ТЕИНИ ВЕЛИКЕ ГУСТИНЕ 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i="1" lang="sr-RS" sz="32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1" i="1" lang="en-US" sz="3200" spc="-1" strike="noStrike">
                <a:solidFill>
                  <a:srgbClr val="17375e"/>
                </a:solidFill>
                <a:latin typeface="Calibri"/>
              </a:rPr>
              <a:t>DL </a:t>
            </a: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– high density lipoproteins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29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7920"/>
            <a:ext cx="9144000" cy="68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ХИЛ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НИ (СМ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најмање густине а п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величини су највећ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садрже највише триацилглицер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ла а најмање пр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те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улога им је да липиде унете храном доставе до циљних тки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ИНИ ВЕ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МА МАЛЕ ГУСТИНЕ (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VLDL)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и ЛИП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ИНИ МАЛЕ ГУСТИНЕ (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LD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имају све већу густину јер се п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већава садржај пр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теина а смањује садржај липида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Улога 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VLDL 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липопротеина је да до ткива доставе ендогено синтетисане триацилглицероле а улога 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LDL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а да до периферних ткива достове холестеро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ИНИ ВЕЛИКЕ ГУСТИНЕ (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DL)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честице са највећ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м густин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м 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д свих лип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теина (имају највећи садржај пр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теина а најмањи садржај липида)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главна улога им је да из периферних ткива у јетру врате вишкове холестеро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Према густини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еини су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дељени на клас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хил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ни, 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VLDL, LDL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и Н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рема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елект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ф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ретској п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кретљив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сти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(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кретљив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т 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у карактеристика п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еина 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и улазе у састав ли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еинске честице),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да је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дела на класе следећ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хил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ни, </a:t>
            </a:r>
            <a:r>
              <a:rPr b="0" i="1" lang="el-GR" sz="1800" spc="-1" strike="noStrike">
                <a:solidFill>
                  <a:srgbClr val="17375e"/>
                </a:solidFill>
                <a:latin typeface="Calibri"/>
              </a:rPr>
              <a:t>β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честице (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LDL), 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пре</a:t>
            </a:r>
            <a:r>
              <a:rPr b="0" i="1" lang="el-GR" sz="1800" spc="-1" strike="noStrike">
                <a:solidFill>
                  <a:srgbClr val="17375e"/>
                </a:solidFill>
                <a:latin typeface="Calibri"/>
              </a:rPr>
              <a:t>β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честице (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VLDL)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и </a:t>
            </a:r>
            <a:r>
              <a:rPr b="0" i="1" lang="el-GR" sz="1800" spc="-1" strike="noStrike">
                <a:solidFill>
                  <a:srgbClr val="17375e"/>
                </a:solidFill>
                <a:latin typeface="Calibri"/>
              </a:rPr>
              <a:t>α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честице (Н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L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АП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ТЕИ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5840" y="1295280"/>
            <a:ext cx="9128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760" y="-360"/>
            <a:ext cx="91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МЕТАБ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ИЗАМ ХИЛ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настају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у ентер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цитим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се егз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ге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 (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хра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) унете триацилглице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е, х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 и естре х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а (и липиде ресинтетисане у енте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цитима) д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периферних тки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имају ап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теин 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ар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В-4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у циркулацији насцентни хил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ни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примају 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д Н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DL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ар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Е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(рецепт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ри на хепат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цитима преп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знају а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Е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ар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С 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II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(а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С-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II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је не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пх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дан активат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р за лип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теинску липазу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деградација триацилглице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а дејств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 лип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теинске липаз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настанак хил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н-ремнант честиц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МЕТАБOЛИЗАМ ЛИПOПРOТЕИНА ВЕOМА МАЛЕ ГУСТИН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240" y="1218960"/>
            <a:ext cx="9131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синтетишу се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у  хепат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ци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садрже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ароВ-100</a:t>
            </a: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 и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ароА-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у циркулацији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приме ар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С-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II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и ар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Е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д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HD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М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дификација циркулишућих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VLDL</a:t>
            </a: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- триацилглиц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 уклања ли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еинска лип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- а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II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 и а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Е се враћају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H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- врши се размена липидних 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м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енти 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а је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ред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ана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 естар трансфер 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инима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: х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стерол-естри се с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H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а пребацују 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VL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 у замену за триацилглиц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 и ф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ф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ипиде 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и се с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VL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а пребацују 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H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Настанак 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LDL o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д 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VLDL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у плазми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–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ле свих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их п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ме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VL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 се у плазми 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вертују у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L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7162920" y="533520"/>
            <a:ext cx="1981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МЕТАБOЛИЗАМ ЛИПOПРOТЕИНА МАЛЕ ГУСТИНЕ (LD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настају 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у циркулацији од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VLD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задржавају ар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В-100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, друге ап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теи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предају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HDL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честица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садрже мн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г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већу к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ичину х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и х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-еста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сн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вна функција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LDL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честица је 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периферним ткивима д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преме х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"хидрoфoбнo се у хидрoфoбнoм раствара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LDL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рецепт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ри 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преп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знају а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Е и а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-100 и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м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гућавају везивање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LDL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 за мембрану циљних ћелија - рецепт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м-п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сред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ана енд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цит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з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Ефекат енд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цит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з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м унет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г х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лестер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ла на садржај х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лестер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ла у ћелији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1.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да се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држи 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интегритет ћелијске мемб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2.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смањује се синтеза х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а из ацетил-С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А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 се јер је смањена синтеза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HMG-CoA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редукта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3.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стимулисана активн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ст ензима ацил-С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А:х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-ацил-трансферазе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ACAT)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к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ји врши естерификацију х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а и д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прин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си њег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м деп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вањ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4.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смањена синтеза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LDL 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рецепт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ра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так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шт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се смањује нив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експресије гена –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down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регулација синтезе протеина рецепт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38862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АТЕРОГЕНЕ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3120" y="990720"/>
            <a:ext cx="9110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Мак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фаги преузимају оксидативно м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дифик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вани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L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утем </a:t>
            </a:r>
            <a:r>
              <a:rPr b="0" i="1" lang="en-US" sz="2000" spc="-1" strike="noStrike">
                <a:solidFill>
                  <a:srgbClr val="17375e"/>
                </a:solidFill>
                <a:latin typeface="Calibri"/>
              </a:rPr>
              <a:t>scavenger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рецеп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ра - рецептори „</a:t>
            </a:r>
            <a:r>
              <a:rPr b="0" i="1" lang="sr-RS" sz="2000" spc="-1" strike="noStrike">
                <a:solidFill>
                  <a:srgbClr val="17375e"/>
                </a:solidFill>
                <a:latin typeface="Calibri"/>
              </a:rPr>
              <a:t>хватачи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“ и постају </a:t>
            </a:r>
            <a:r>
              <a:rPr b="0" i="1" lang="en-US" sz="2000" spc="-1" strike="noStrike">
                <a:solidFill>
                  <a:srgbClr val="17375e"/>
                </a:solidFill>
                <a:latin typeface="Calibri"/>
              </a:rPr>
              <a:t>foam cells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- "</a:t>
            </a:r>
            <a:r>
              <a:rPr b="0" i="1" lang="sr-RS" sz="2000" spc="-1" strike="noStrike">
                <a:solidFill>
                  <a:srgbClr val="17375e"/>
                </a:solidFill>
                <a:latin typeface="Calibri"/>
              </a:rPr>
              <a:t>пенасте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" ћел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Акумулација пенастих ћелија у субенд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лијал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м 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ст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ру крв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г суда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- први знак настанка ат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кл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с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г пл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Васкуларни фактори ризик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за настанак атеросклерозе треба да достигну критични праг и доведу до оштећења у ендотелном слоју крвног с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Долази до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адхезије и агрегације тромбоцит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и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формирања локалног угруш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Делимично затварање лумена крвног суда води до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омене хемодинамике протицања кр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Када фиброзна капа атерома пукне, садржај плака се излива у циркулацију и то води ка акутном настајању тром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Цео процес индукују оксидовани стероли и трансформишући фактор раста бет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који синтетишу неке васкуларне ћел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733920" y="34920"/>
            <a:ext cx="54100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МЕТАБOЛИЗАМ ЛИПOПРOТЕИНА ВЕЛИКЕ ГУСТИНЕ (НD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560" y="1218960"/>
            <a:ext cx="91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 се синтетишу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у јетри и енте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цити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у ф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рми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насцентне (незреле) 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DL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честице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и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пушта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у се у циркулацију егз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ци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з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луже каo циркулатoрни резервoар арoС-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Преузимање неестерификoванoг хoлестерoла из екстрахепатичких ткива (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LCAT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Стимулат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р за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LCAT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реакцију је а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А-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I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аставна кoмпoнента насцентне НDL чест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НDL честица пуни естрима хoлестерoла и триацилглицерoлима, oна пoстаје велика и сфернoг oблика –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зрела 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DL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честиц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тј.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DL</a:t>
            </a:r>
            <a:r>
              <a:rPr b="1" lang="en-US" sz="2000" spc="-1" strike="noStrike" baseline="-25000">
                <a:solidFill>
                  <a:srgbClr val="17375e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DL</a:t>
            </a:r>
            <a:r>
              <a:rPr b="0" lang="en-US" sz="2000" spc="-1" strike="noStrike" baseline="-25000">
                <a:solidFill>
                  <a:srgbClr val="17375e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ребацују х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 естре 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VLDL (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е једини начин да напусте 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DL) 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у замену за триацилглиц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 ш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е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ред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а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 естар трансфер 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инима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(СЕРТ-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holesterol Ester Transfer Proteins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Сферне 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DL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честице преузима јетра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рецеп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р-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ред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а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м енд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ци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з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м и х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 естри се разграђу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925960" y="533520"/>
            <a:ext cx="32292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26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17375e"/>
                </a:solidFill>
                <a:latin typeface="Calibri"/>
              </a:rPr>
              <a:t>Структура холестер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539360"/>
            <a:ext cx="91440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27 С ато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3-хидрокси-5,6-холестен;</a:t>
            </a:r>
            <a:r>
              <a:rPr b="0" lang="sr-RS" sz="2200" spc="-1" strike="noStrike">
                <a:solidFill>
                  <a:srgbClr val="17375e"/>
                </a:solidFill>
                <a:latin typeface="Calibri"/>
              </a:rPr>
              <a:t> ароматични алкох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четири кондензована прстена; означени словима А, B, C и 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хидроксилна група (OH-група) у 3. положају у прстену 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двострука веза између 5. и 6. С-атома прстена B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метил-група на 10. и 13. С-атому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бочни ланац на 17. С-атому од осам угљеникових ат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17375e"/>
                </a:solidFill>
                <a:latin typeface="Calibri"/>
              </a:rPr>
              <a:t>Значај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стероидни</a:t>
            </a: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хормони и жучне кисе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тероидни хормон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17375e"/>
                </a:solidFill>
                <a:latin typeface="Calibri"/>
              </a:rPr>
              <a:t>полни хормони, мушки – тестостерон и женски – прогестерон и естроген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17375e"/>
                </a:solidFill>
                <a:latin typeface="Calibri"/>
              </a:rPr>
              <a:t>хормони коре надбубрега – минералокортикоиди, глукокортикоидни и адренални андрогени 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17375e"/>
                </a:solidFill>
                <a:latin typeface="Calibri"/>
              </a:rPr>
              <a:t>витамин 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У саставу биолошких мембрана</a:t>
            </a: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У саставу липопротеинских чест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olesterol gradja"/>
          <p:cNvPicPr/>
          <p:nvPr/>
        </p:nvPicPr>
        <p:blipFill>
          <a:blip r:embed="rId1"/>
          <a:stretch/>
        </p:blipFill>
        <p:spPr>
          <a:xfrm>
            <a:off x="5861160" y="76320"/>
            <a:ext cx="32828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23760" y="-360"/>
            <a:ext cx="916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Хиперлипопротеинемије</a:t>
            </a: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 се дефинишу као поремећаји код којих постоји повећан садржај појединих липопротеина у кр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Примарне хиперлипопротеинем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26920" y="1600200"/>
          <a:ext cx="7993080" cy="5232240"/>
        </p:xfrm>
        <a:graphic>
          <a:graphicData uri="http://schemas.openxmlformats.org/drawingml/2006/table">
            <a:tbl>
              <a:tblPr/>
              <a:tblGrid>
                <a:gridCol w="1805040"/>
                <a:gridCol w="2227320"/>
                <a:gridCol w="1079640"/>
                <a:gridCol w="1508040"/>
                <a:gridCol w="13730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Липопротеински  т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емећа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римарни деф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Липопроте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Лип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иломикрон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L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иломикро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А</a:t>
                      </a:r>
                      <a:r>
                        <a:rPr b="0" lang="en-U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II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одична хиперхолестерол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LDL -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рецеп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   </a:t>
                      </a: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L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олест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II </a:t>
                      </a: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одична хиперхолестеролемија са триглицеридемиј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LDL -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рецеп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LDL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и </a:t>
                      </a: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VL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А</a:t>
                      </a:r>
                      <a:r>
                        <a:rPr b="0" lang="en-U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G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олест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одична дисбеталипопротеин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</a:t>
                      </a: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o -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иломикрон     ремн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А</a:t>
                      </a:r>
                      <a:r>
                        <a:rPr b="0" lang="en-U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G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олест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одична хипертриглицерид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непозн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VL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А</a:t>
                      </a:r>
                      <a:r>
                        <a:rPr b="0" lang="en-U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одична хиперхиломикронемија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ипертриглицерид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непозн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VLDL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иломикро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А</a:t>
                      </a:r>
                      <a:r>
                        <a:rPr b="0" lang="en-U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G 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олест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акмакотерапијски избор за лечење хиперлипидемија, </a:t>
            </a: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хиполипеми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Деривати жучних киселина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(резини, анјонске смоле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Ниацин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, никотинска кисел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Инхибитори HMG-CoA-редуктазе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, статини,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Фибрати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, деривати фибричке киселин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омбинована терапија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са више лекова који делују различитим механизмима препоручује се оболелима који не одговарају добро на дијету тј. промену начина исхране или на терапију појединачним леков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7375e"/>
                </a:solidFill>
                <a:latin typeface="Calibri"/>
              </a:rPr>
              <a:t>Холестерол се може унети храном у организам </a:t>
            </a:r>
            <a:br>
              <a:rPr sz="2800"/>
            </a:br>
            <a:r>
              <a:rPr b="0" lang="sr-CS" sz="28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lang="sr-CS" sz="2800" spc="-1" strike="noStrike">
                <a:solidFill>
                  <a:srgbClr val="17375e"/>
                </a:solidFill>
                <a:latin typeface="Calibri"/>
              </a:rPr>
              <a:t>егзогени</a:t>
            </a:r>
            <a:r>
              <a:rPr b="0" lang="sr-CS" sz="2800" spc="-1" strike="noStrike">
                <a:solidFill>
                  <a:srgbClr val="17375e"/>
                </a:solidFill>
                <a:latin typeface="Calibri"/>
              </a:rPr>
              <a:t>) или се синтетише у организму - јетри (</a:t>
            </a:r>
            <a:r>
              <a:rPr b="1" lang="sr-CS" sz="2800" spc="-1" strike="noStrike">
                <a:solidFill>
                  <a:srgbClr val="17375e"/>
                </a:solidFill>
                <a:latin typeface="Calibri"/>
              </a:rPr>
              <a:t>ендогени</a:t>
            </a:r>
            <a:r>
              <a:rPr b="0" lang="sr-CS" sz="2800" spc="-1" strike="noStrike">
                <a:solidFill>
                  <a:srgbClr val="17375e"/>
                </a:solidFill>
                <a:latin typeface="Calibri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40" y="1599840"/>
            <a:ext cx="914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Апсорпција холестерол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у ентероците је кључна регулаторна тачка у метаболизму холестерола која одређује колико ће се процената холестерола апсорбовати у крв (око 55% интестиналних залих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Око 1000mg  холестерола се синтетише у јетри и путем жучи доспе у цр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Око 300mg  холестерола се дневно унесе хра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Холестерол унет храном апсорбују ентероцити тј. епителне ћелије танког црева где се врши његова естерификација (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ацил-CоА-холестерол-ацил трансфераза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АCАТ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Најчешћа масна киселина којом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је естерификован холестерол је есенцијална МК – линоленска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. Због ове модификације естри холестерола су далеко хидрофобнији од самог холестер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Настали естри холестерола се заједно са липидима и протеинима пакују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у хиломикроне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и крвотоком транспортују до јетре, мишића, масног тк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Холестерол синтетисан у организму се из јетре у саставу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VLDL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 липопротеин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транспортује у периферна тки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17375e"/>
                </a:solidFill>
                <a:latin typeface="Calibri"/>
              </a:rPr>
              <a:t>Синтеза холестерол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1066320"/>
            <a:ext cx="6288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Свих 27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атома потичу из ацетилног дела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ацетил-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17375e"/>
                </a:solidFill>
                <a:latin typeface="Calibri"/>
              </a:rPr>
              <a:t>У цитосолу  </a:t>
            </a: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ћелија на површини </a:t>
            </a:r>
            <a:r>
              <a:rPr b="1" lang="sr-CS" sz="2400" spc="-1" strike="noStrike">
                <a:solidFill>
                  <a:srgbClr val="17375e"/>
                </a:solidFill>
                <a:latin typeface="Calibri"/>
              </a:rPr>
              <a:t>ендоплазматског ретикулу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Осим </a:t>
            </a:r>
            <a:r>
              <a:rPr b="1" lang="sr-CS" sz="2400" spc="-1" strike="noStrike">
                <a:solidFill>
                  <a:srgbClr val="17375e"/>
                </a:solidFill>
                <a:latin typeface="Calibri"/>
              </a:rPr>
              <a:t>ацетил-СоА</a:t>
            </a: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, потребн је </a:t>
            </a:r>
            <a:r>
              <a:rPr b="1" lang="sr-CS" sz="2400" spc="-1" strike="noStrike">
                <a:solidFill>
                  <a:srgbClr val="17375e"/>
                </a:solidFill>
                <a:latin typeface="Calibri"/>
              </a:rPr>
              <a:t>NADPH</a:t>
            </a: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 и </a:t>
            </a:r>
            <a:r>
              <a:rPr b="1" lang="sr-CS" sz="2400" spc="-1" strike="noStrike">
                <a:solidFill>
                  <a:srgbClr val="17375e"/>
                </a:solidFill>
                <a:latin typeface="Calibri"/>
              </a:rPr>
              <a:t>АТР</a:t>
            </a: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Синтеза у 4 фаз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Први корак: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синтеза мевалоната </a:t>
            </a: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из ацетил-Со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Други корак: превођење мевалоната у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две активиране изопренске једин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Трећи корак: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кондензација</a:t>
            </a: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 шест активираних петоугљеничних изопренских јединица у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сквал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Четврти корак: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превођење сквалена у стероидно језг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2600" y="990720"/>
            <a:ext cx="5245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Прва корак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кондензација 2 ацетил-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у ацетоацетил-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кондензација ацетоацетил-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A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а још једним ацетил-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и настанак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β-хидрокси-β-метилглутарил-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HMG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-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) који се преводи у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мевалонат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, једињење са 6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атома (ензим је </a:t>
            </a:r>
            <a:r>
              <a:rPr b="1" lang="en-US" sz="2000" spc="-1" strike="noStrike" u="sng">
                <a:solidFill>
                  <a:srgbClr val="17375e"/>
                </a:solidFill>
                <a:uFillTx/>
                <a:latin typeface="Calibri"/>
              </a:rPr>
              <a:t>HMG</a:t>
            </a:r>
            <a:r>
              <a:rPr b="1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–</a:t>
            </a:r>
            <a:r>
              <a:rPr b="1" lang="en-US" sz="2000" spc="-1" strike="noStrike" u="sng">
                <a:solidFill>
                  <a:srgbClr val="17375e"/>
                </a:solidFill>
                <a:uFillTx/>
                <a:latin typeface="Calibri"/>
              </a:rPr>
              <a:t>CoA</a:t>
            </a:r>
            <a:r>
              <a:rPr b="1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 редуктаза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Најзначајнији корак и главна регулаторна тачка синтезе холестерола је редукција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HMG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-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 у мевало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HMG</a:t>
            </a: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 редуктаза је ензим који је уграђен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у мембрану ендоплазматског ретикулума са активним местом које је постављено ка цитосол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17375e"/>
                </a:solidFill>
                <a:latin typeface="Calibri"/>
              </a:rPr>
              <a:t>Синтеза холестерол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132520" y="914400"/>
            <a:ext cx="401148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360" y="990720"/>
            <a:ext cx="6172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I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корак: </a:t>
            </a:r>
            <a:r>
              <a:rPr b="1" lang="sr-CS" sz="2600" spc="-1" strike="noStrike">
                <a:solidFill>
                  <a:srgbClr val="17375e"/>
                </a:solidFill>
                <a:latin typeface="Calibri"/>
              </a:rPr>
              <a:t>декарбоксилација мевалоната </a:t>
            </a:r>
            <a:r>
              <a:rPr b="0" lang="sr-CS" sz="2600" spc="-1" strike="noStrike">
                <a:solidFill>
                  <a:srgbClr val="17375e"/>
                </a:solidFill>
                <a:latin typeface="Calibri"/>
              </a:rPr>
              <a:t>и настанак изопренских јединица (са 5С атома): </a:t>
            </a:r>
            <a:r>
              <a:rPr b="1" lang="sr-CS" sz="2600" spc="-1" strike="noStrike">
                <a:solidFill>
                  <a:srgbClr val="17375e"/>
                </a:solidFill>
                <a:latin typeface="Calibri"/>
              </a:rPr>
              <a:t>изопентенил-пирофосфата</a:t>
            </a:r>
            <a:r>
              <a:rPr b="0" lang="sr-CS" sz="2600" spc="-1" strike="noStrike">
                <a:solidFill>
                  <a:srgbClr val="17375e"/>
                </a:solidFill>
                <a:latin typeface="Calibri"/>
              </a:rPr>
              <a:t> и </a:t>
            </a:r>
            <a:r>
              <a:rPr b="1" lang="sr-CS" sz="2600" spc="-1" strike="noStrike">
                <a:solidFill>
                  <a:srgbClr val="17375e"/>
                </a:solidFill>
                <a:latin typeface="Calibri"/>
              </a:rPr>
              <a:t>диметилалил-пирофосф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III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корак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геранил-пирофосфат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(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10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C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атом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фарнезил-пирофосфат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(15 С атом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сквален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(3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0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C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атом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IV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корак: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ароматизација/циклизација сквалена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у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ланостерол и претварање ланостерола у холестеро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55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Циклизацију сквалена катализује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 сквален оксидоциклаза (сквален-монооксигеназ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17375e"/>
                </a:solidFill>
                <a:latin typeface="Calibri"/>
              </a:rPr>
              <a:t>Синтеза холестерол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17375e"/>
                </a:solidFill>
                <a:latin typeface="Calibri"/>
              </a:rPr>
              <a:t>Регулација синтезе холестер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HMG-CoA редуктаза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је кључни регулаторни ензим процеса синтезе холестерола -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RATE-LIMITING ензим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за цео процес синтезе холестерола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7375e"/>
                </a:solidFill>
                <a:latin typeface="Calibri"/>
              </a:rPr>
              <a:t>Feedback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17375e"/>
                </a:solidFill>
                <a:latin typeface="Calibri"/>
              </a:rPr>
              <a:t>инхибиц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17375e"/>
                </a:solidFill>
                <a:latin typeface="Calibri"/>
              </a:rPr>
              <a:t>Регулација транскрипције посредована стерол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17375e"/>
                </a:solidFill>
                <a:latin typeface="Calibri"/>
              </a:rPr>
              <a:t>Протеолитичка регулац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Ковалентне модификације условљене хормонском регулациј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17375e"/>
                </a:solidFill>
                <a:latin typeface="Calibri"/>
              </a:rPr>
              <a:t>Инхибиција леков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hmgcoareductaseregul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Различите судбине холестерола у ћел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200" y="990360"/>
            <a:ext cx="91184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Највећи део синтезе одиграва се 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ЈЕТ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цревима (ентероцитим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ори надбубрега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гонада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(код трудница у плацент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Највећа количина холестерола насталог у јетри излучује се у неком од три облик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естри холестеро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холестерол у жучи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жучне кисел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4T16:55:55Z</dcterms:created>
  <dc:creator>Korisnik</dc:creator>
  <dc:description/>
  <dc:language>en-US</dc:language>
  <cp:lastModifiedBy>KC KG Lab</cp:lastModifiedBy>
  <dcterms:modified xsi:type="dcterms:W3CDTF">2020-10-01T08:07:09Z</dcterms:modified>
  <cp:revision>48</cp:revision>
  <dc:subject/>
  <dc:title>Факултет медицинских наука Универзитета у Крагујевцу Основне струковне студије Биохемија, А4</dc:title>
</cp:coreProperties>
</file>